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143-4312-4359-B622-FCAC4810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09B-4C31-477C-8D6D-0DF70451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A62-23E4-403A-8B1F-5C833F87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9E4C-4E32-4FEA-AC34-AD8D774F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794D-6E22-460D-A54A-B124A119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2BF7-0463-4D99-AB59-AB931036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504E-BC76-453E-9CAD-60AFBEED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FF86-A5A4-462E-B706-B8CB1E1F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DBF5-8CBF-43D6-8B88-F0D386BF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4C60-8AEA-4207-8D67-6063AD55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F84A-C2CF-4789-973F-397B17EB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BCD-2FFC-44A0-AC66-3451C343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AD9C-7FE9-409E-8449-5EF0F07A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6A8A-19CA-453B-AAE0-564DACF0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1F63-EFE7-4116-ADB1-FE746955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A01A-E459-4802-9A54-407415BD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50A9-736D-4808-ACD7-735DAF5C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67B6-5F4E-4A65-9332-92F7A0C5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6587-CFCA-4C90-8AC8-C9770A5B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717-AE43-4DCF-9B8A-706007FE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C65B-D746-4530-B2EE-A7C07601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E4AE-8DD2-428D-B7AB-E28F3743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0C43-38B0-47C7-901C-8B7811BB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F430-2D11-48EC-A260-3A276B20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98F3-63FF-44DB-B10C-22168D1097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604C-BEEF-44A4-94BB-8259BE2927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Individual in Histo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-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8c0039"/>
                </a:solidFill>
                <a:latin typeface="Arial"/>
              </a:rPr>
              <a:t>Consider this question (the EQ)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es the individual influence history, or does history influence the individual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embark upon two parts of a year-long research process to answer that question. Part I will be to research and write a paper. Part II will be about showcasing their research in a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you beg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fill out the capacity matrix about your the research process so I can see where you are in your knowledge of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category on the left-hand column in the capacity matrix, check whichever block in the rest of the columns that fits your knowledge of the research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I’ve never heard of this concept and have no idea of what it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I’ve heard of this conc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ehens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I understand this concept and can demonstrate my knowled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I apply this concept to conduct research about a problem or 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 &amp; Synthe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I can use this concept in a variety of ways to meet my research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lu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I foresee application of these concepts often and will use them in my future researc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96080" y="556272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5627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8:28:56Z</dcterms:created>
  <dc:creator>Jeri</dc:creator>
  <dc:description/>
  <dc:language>en-US</dc:language>
  <cp:lastModifiedBy>Greenville Schools</cp:lastModifiedBy>
  <dcterms:modified xsi:type="dcterms:W3CDTF">2008-03-03T01:50:37Z</dcterms:modified>
  <cp:revision>21</cp:revision>
  <dc:subject/>
  <dc:title>The Individual in History</dc:title>
</cp:coreProperties>
</file>